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19FA-4C5F-4324-8EF6-8D179CB901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61F4-7250-4C44-87A2-BD63BED6C8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D706-85CB-4D6B-BABD-D3153976CE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19F0-F513-48E2-B548-60E9929F2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0EE-DD81-4AEF-8795-DD1612993E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BEED-B6B4-4D4A-BBC2-78D63DF628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B721-18AE-4D6E-831E-43F1E45480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6EF-D73E-4A06-BD06-26715496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347A-8837-4DD7-A87F-A0B9AB6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22E-6214-46D2-A1DD-9C7DA0F3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FF5-1B4E-4423-971C-10300B82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E4D2-7738-4477-8C95-66C21FCE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3B35-87A1-467D-8037-2F1C3EF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C451-9411-4C26-A6DA-D4F7B922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6819-0B7C-471C-A87F-FC8B17F6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69C1-8912-40B3-BA07-B569802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243-3968-4FF7-B9AF-5BDE1AE6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9B0-3F90-4129-9FA8-7D8A374F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A96-0607-47CF-9542-05C07DD3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A93D-B7B6-44B6-848C-F0352CF1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7AAA-8AAB-4850-B956-774D5D61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E4B3-DDBC-479A-B153-4C1426E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17AE-ADB8-45E3-9A18-EFBC0DAFE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C20A-1A87-4935-A3BA-B4C39E36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D3A-22D9-478D-8A85-9701E62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334-0BD9-440B-B187-CBBAE32D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2964-B678-4330-A09D-6DDE2BEF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848-5BFD-46BB-9630-965107FE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2A1-7547-43E4-9069-B462C1E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CF0-6CE8-4693-9EBF-DD92E7F2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461-C46A-4FFB-BCE3-F1EE5B70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001-D091-41F6-B9DA-3560EB3494E6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337E-E016-49C2-AFA0-F41D8709F00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ccecff"/>
                  </a:solidFill>
                  <a:latin typeface="Arial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ccec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FD81-60A0-4134-B980-AC86CC389DF3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BE38-C198-4F1F-A3EE-318BE440C95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3c8c8"/>
                </a:solidFill>
                <a:latin typeface="Arial"/>
              </a:rPr>
              <a:t>МОУ «Средняя общеобразовательная школа №3»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КАЖИ НАРКОТИКАМ НЕТ !!!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Выполнил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Сметанников Артё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Шереметьев Витали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Ларин Иль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Тихонов Антон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ffc000"/>
                </a:solidFill>
                <a:latin typeface="Verdana"/>
              </a:rPr>
              <a:t>Трусова Наталья Михайлов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44BB-8C72-4369-87CC-460B96900827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626D-90F9-48DA-BEE3-5D9AAF06178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Диаграмма 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221" name="Диаграмма 6" descr=""/>
          <p:cNvPicPr/>
          <p:nvPr/>
        </p:nvPicPr>
        <p:blipFill>
          <a:blip r:embed="rId2"/>
          <a:stretch/>
        </p:blipFill>
        <p:spPr>
          <a:xfrm>
            <a:off x="4800600" y="609480"/>
            <a:ext cx="4038480" cy="2667240"/>
          </a:xfrm>
          <a:prstGeom prst="rect">
            <a:avLst/>
          </a:prstGeom>
          <a:ln w="0">
            <a:noFill/>
          </a:ln>
        </p:spPr>
      </p:pic>
      <p:pic>
        <p:nvPicPr>
          <p:cNvPr id="222" name="Диаграмма 8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11480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Диаграмма 9" descr=""/>
          <p:cNvPicPr/>
          <p:nvPr/>
        </p:nvPicPr>
        <p:blipFill>
          <a:blip r:embed="rId4"/>
          <a:stretch/>
        </p:blipFill>
        <p:spPr>
          <a:xfrm>
            <a:off x="4800600" y="3581280"/>
            <a:ext cx="4038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Verdana"/>
              </a:rPr>
              <a:t>У каждого человека есть выбор: быть мертвым с наркотиками или остаться в живых без них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D86-E69C-419B-9B41-28823704C89D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8899-480B-4B89-A62B-443790EE2CD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6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1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419720" y="914040"/>
            <a:ext cx="44956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Вот он тащился, чуть не умира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Через минуту ж 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где достал, бог весть! 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 радостях искусственного ра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мир може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на лице его прочесть!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А сколько их сейчас бредет по свету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чья участь то сладка, а то тяжка!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И видимо уже спасенья нет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от этого простого  порошка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Е.Винокуров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4CD3-A59C-4211-97F6-F485520BDDC5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Номер слайда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453C-B511-4C13-9317-421B6E350CE6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Picture 9" descr="girl"/>
          <p:cNvPicPr/>
          <p:nvPr/>
        </p:nvPicPr>
        <p:blipFill>
          <a:blip r:embed="rId1"/>
          <a:stretch/>
        </p:blipFill>
        <p:spPr>
          <a:xfrm>
            <a:off x="685800" y="1143000"/>
            <a:ext cx="34322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ED37D-3AA7-4EC6-B7FF-4BBAB73988F4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D4D-CF8E-417E-B83C-D94E4128C60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Актуальность проблем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1028"/>
          <p:cNvSpPr/>
          <p:nvPr/>
        </p:nvSpPr>
        <p:spPr>
          <a:xfrm>
            <a:off x="762120" y="862200"/>
            <a:ext cx="7619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нашу жизнь наркотики вошли давно и, к сожалению, прочно. Приходится слышать, что кто-то пробовал, у кого-то этим занимаются друзья, а кто-то сам «торчит»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чень многие приобщены к наркотикам, хотя и знают о том, что они вредны и смертельно опасны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рмия наркоманов не уменьшается, а растёт, и нельзя сказать, что в ближайшее время ожидаются какие-то изменения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се больше и больше несчастий связанно с наркоманией, все больше жизней уносят передозировки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распространение наркотических средств вовлечены тысячи простых граждан, в том числе и подростков, что в немалой степени связано с низким уровнем жизни большой части населе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D233-3E05-49FE-ABB9-99F7590EA980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49C8-908F-46C8-861E-307B134CC48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-1139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Цель: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определить основные факторы влияния на распространение наркотиков среди подростков, аспекты и причины возникновения наркомании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Verdana"/>
              </a:rPr>
              <a:t>Задачи:</a:t>
            </a: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Дать определение наркомании, наркозависимости, узнать: можно ли излечиться от наркологической зависимост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выявить общие признаки употребления наркологических веществ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определить  влияние наркотиков на организм челове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D:\Наталья\Наркотики\Фото\CAW9C90N.jpg"/>
          <p:cNvPicPr/>
          <p:nvPr/>
        </p:nvPicPr>
        <p:blipFill>
          <a:blip r:embed="rId1"/>
          <a:stretch/>
        </p:blipFill>
        <p:spPr>
          <a:xfrm>
            <a:off x="5181480" y="4398840"/>
            <a:ext cx="3353040" cy="2459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F333-667C-410D-9940-222AFB38354D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7E0-9F66-4EF2-8A80-3E31EF8292D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то такое наркот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Verdana"/>
              </a:rPr>
              <a:t>           </a:t>
            </a:r>
            <a:r>
              <a:rPr b="0" lang="ru-RU" sz="2400" spc="-1" strike="noStrike">
                <a:solidFill>
                  <a:srgbClr val="ffc000"/>
                </a:solidFill>
                <a:latin typeface="Verdana"/>
              </a:rPr>
              <a:t>Наркотики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- это вещества, способные вызывать состояние радостного опьянения -эйфорию, а при систематическом применении-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ивыкание и жесткую зависим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             </a:t>
            </a:r>
            <a:r>
              <a:rPr b="0" lang="ru-RU" sz="2800" spc="-1" strike="noStrike">
                <a:solidFill>
                  <a:srgbClr val="ffc000"/>
                </a:solidFill>
                <a:latin typeface="Verdana"/>
              </a:rPr>
              <a:t>Наркотики </a:t>
            </a:r>
            <a:r>
              <a:rPr b="0" lang="ru-RU" sz="2800" spc="-1" strike="noStrike">
                <a:solidFill>
                  <a:srgbClr val="ffff00"/>
                </a:solidFill>
                <a:latin typeface="Verdana"/>
              </a:rPr>
              <a:t>- это химические вещества, которые проникают в коммуникативную систему вашего мозга и разрушают работу нервных клеток, а именно, то, как они посылают, получают сигналы и усваивают информацию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10000"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щие признаки употребления наркотических веществ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733920" y="4495680"/>
            <a:ext cx="449568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речи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ее ускорение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подчеркнутая выразительность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ли же замедленность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невнятность, нечеткость речи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(«каша во рту»)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352680" y="4500720"/>
            <a:ext cx="4267440" cy="131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слюноотделения: повышенное слюноотделение или, наоборот, сухость во рту, сухость губ, осиплость голос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209680" y="4194720"/>
            <a:ext cx="5257800" cy="1008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Сильно суженные или сильно расширенные зрачки, не реагирующие на свет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590920" y="3657600"/>
            <a:ext cx="4647960" cy="2057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цвета кожных покровов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бледность лица и всей кожи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ли, наоборот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покраснение лица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 верхней части туловищ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1752480" y="2895480"/>
            <a:ext cx="5181840" cy="2667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координации движений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х плавность, скорость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соразмерность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(размашистость, резкость, неточность)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неустойчивость при ходьбе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покачивание туловища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даже в положении сидя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(особенно явное при закрытых глазах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1600200" y="2819520"/>
            <a:ext cx="4952880" cy="2209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двигательной активности: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повышенная жестикуляция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быточность движений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неусидчивость или обездвиженность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вялость, расслабленность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стремление к покою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873"/>
                </a:solidFill>
                <a:latin typeface="Arial"/>
              </a:rPr>
              <a:t>(независимо от ситуации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981080" y="2447280"/>
            <a:ext cx="4419720" cy="2228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Изменение настроения: беспричинное веселье, смешливость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болтливость, злобность, агрессивность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явно не соответствующие данной ситуаци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838080" y="1676520"/>
            <a:ext cx="5257800" cy="2743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Arial"/>
              </a:rPr>
              <a:t>Изменение сознания: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Arial"/>
              </a:rPr>
              <a:t>сужение, искажение,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873"/>
                </a:solidFill>
                <a:latin typeface="Arial"/>
              </a:rPr>
              <a:t>помрачение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Rectangle 12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1219320"/>
            <a:ext cx="5410080" cy="2819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Внешний вид и поведение в той или иной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мере напоминает состояние алкогольного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опьянения, но при отсутствии запах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алкоголя изо рта или при слабом запахе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4873"/>
                </a:solidFill>
                <a:latin typeface="Arial"/>
              </a:rPr>
              <a:t>не соответствующем состоянию;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00C4-020E-48D9-A6E1-79E692502C4A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Номер слайда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D524-881D-4F39-AF9A-D09363154633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Основные группы наркотических вещест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Скругленный прямоугольник 7"/>
          <p:cNvSpPr/>
          <p:nvPr/>
        </p:nvSpPr>
        <p:spPr>
          <a:xfrm>
            <a:off x="533520" y="1752480"/>
            <a:ext cx="327636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репараты конопли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Скругленный прямоугольник 8"/>
          <p:cNvSpPr/>
          <p:nvPr/>
        </p:nvSpPr>
        <p:spPr>
          <a:xfrm>
            <a:off x="5029200" y="1828800"/>
            <a:ext cx="3581280" cy="10666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сихостимулято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Скругленный прямоугольник 9"/>
          <p:cNvSpPr/>
          <p:nvPr/>
        </p:nvSpPr>
        <p:spPr>
          <a:xfrm>
            <a:off x="3200400" y="3124080"/>
            <a:ext cx="2743200" cy="1295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епрессан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Скругленный прямоугольник 10"/>
          <p:cNvSpPr/>
          <p:nvPr/>
        </p:nvSpPr>
        <p:spPr>
          <a:xfrm>
            <a:off x="533520" y="4724280"/>
            <a:ext cx="3352680" cy="1143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Галлюциногены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Скругленный прямоугольник 12"/>
          <p:cNvSpPr/>
          <p:nvPr/>
        </p:nvSpPr>
        <p:spPr>
          <a:xfrm>
            <a:off x="5410080" y="4648320"/>
            <a:ext cx="3200400" cy="12189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Опиа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strips dir="lu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конодательство о наркотиках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436920" y="4273920"/>
            <a:ext cx="5046840" cy="161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164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выполнение родителями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ли лицами, их заменяющими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бязанностей по воспитанию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 обучению детей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209400" y="3664080"/>
            <a:ext cx="4652280" cy="161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33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законная выдача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либо подделка рецептов или иных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окументов дающих право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 получение наркотических средств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ли психотропных вещест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2666880" y="2971800"/>
            <a:ext cx="4648320" cy="20574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3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Организация либо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держание притонов для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отребления наркотических средств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или психотропных вещест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1676520" y="2514600"/>
            <a:ext cx="5257800" cy="2133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31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законное культивирование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запрещенных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 возделыванию растений, а также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культивирование сортов конопли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мака или других растений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одержащих наркотические веществ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1523880" y="2057400"/>
            <a:ext cx="4953240" cy="2209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30.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клонение к употреблению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аркотических средств или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сихотропных вещест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1143000" y="1523880"/>
            <a:ext cx="4952880" cy="22100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29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Хищение либо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вымогательство наркотических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редств или психотропных вещест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10320" y="1378080"/>
            <a:ext cx="6723360" cy="1618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татья 228.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Незаконное изготовление, приобретение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хранение, перевозка,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ересылка либо сбыт наркотических или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психотропных веществ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advTm="10000">
    <p:zoom dir="ou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атистическое иссле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Дата 2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B2D7-FB9A-42C0-9534-2DD18850CBFD}" type="datetime">
              <a:rPr b="0" lang="ru-RU" sz="1000" spc="-1" strike="noStrike">
                <a:solidFill>
                  <a:srgbClr val="ffffff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F7C9-47BF-4A21-BE65-9DE8F74898D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Диаграмма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80060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Диаграмма 4" descr=""/>
          <p:cNvPicPr/>
          <p:nvPr/>
        </p:nvPicPr>
        <p:blipFill>
          <a:blip r:embed="rId2"/>
          <a:stretch/>
        </p:blipFill>
        <p:spPr>
          <a:xfrm>
            <a:off x="3581280" y="3657600"/>
            <a:ext cx="5334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1-30T10:40:0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